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2057-D7A1-4FFC-B97A-285516BB9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8792-854F-480F-9B89-757CD3D61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C1F4-C98C-4297-8F3F-3EF794F79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F2F8-46C3-494D-8DA4-952B38787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87507-5EF8-4E78-8073-AD54EEE0A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C60C4-9F14-49BD-AC30-C9FC20267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323CF-5EF3-4EE7-9197-3F82540E2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A5615-2595-4578-B090-803AE13E2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5B970-8C6B-418F-B222-36956F2AA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44F46-86AE-4ED4-98D9-964939348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413BD-BEF8-4B30-AF07-F307B0D08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543F-0F00-498B-A781-46053ADC2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E2690-F6F9-4F1F-AA36-C82FA5ABB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55126-8CC7-48E6-817E-035B17874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5DAA1-A5B8-47FE-917A-099AE067B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530ED-092C-4F62-BDBA-A32470683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A585E-8639-4AE5-9ACB-DD7FE6BFE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71AA-6D56-471E-BCBE-9DCB915D9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3FB3-E865-4F6C-90A9-80138B45B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E060-365A-48DC-BCEF-B99B981AB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E0A5-6FCD-49E6-A8C6-CB84E796E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787C-77BE-4009-87B4-D0AFE374D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E67D-4E1A-4B2E-8ED5-358939FA8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D888-C7DE-41A3-A553-652D935B8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C2F94-43E0-4FC5-81BC-A2BE082EC6D8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A760B-87DC-4C2F-BE34-1C3AC5E34EDE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371600"/>
            <a:ext cx="815328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66ff66"/>
                </a:solidFill>
                <a:uFillTx/>
                <a:latin typeface="Ravie"/>
              </a:rPr>
              <a:t>Adjectives about Lebron Jam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y: Dawson, Jacob, Alexius, and Lily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3" marL="160020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ff00"/>
                </a:solidFill>
                <a:latin typeface="Bauhaus 93"/>
              </a:rPr>
              <a:t>Athletic: because he plays basketball so well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Cooper Black"/>
              </a:rPr>
              <a:t>Energetic: because he plays a sport</a:t>
            </a:r>
            <a:endParaRPr b="0" lang="en-US" sz="6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66"/>
                </a:solidFill>
                <a:latin typeface="Chiller"/>
              </a:rPr>
              <a:t>Nice: because he has great sportsmanship</a:t>
            </a:r>
            <a:r>
              <a:rPr b="0" lang="en-US" sz="4000" spc="-1" strike="noStrike">
                <a:solidFill>
                  <a:srgbClr val="ffff66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aring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0T17:15:59Z</dcterms:created>
  <dc:creator>mves-student</dc:creator>
  <dc:description/>
  <dc:language>en-US</dc:language>
  <cp:lastModifiedBy>technician</cp:lastModifiedBy>
  <dcterms:modified xsi:type="dcterms:W3CDTF">2010-09-02T17:14:32Z</dcterms:modified>
  <cp:revision>3</cp:revision>
  <dc:subject/>
  <dc:title>Adjectives about Lebron James</dc:title>
</cp:coreProperties>
</file>